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media/image8.gif" ContentType="image/gi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F1D-189E-456C-B331-FD98319257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C75-2AD0-4C7A-A2C0-92518A481C8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E44-F29A-4C19-86AF-23E06495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799-66A4-4BA4-A925-43660FE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E2E-63DF-43DD-80DC-4B67D489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2D3-C6C7-46F6-8C31-1F1C6F8B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5871-5DA7-442F-96A6-D0B62669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E523-C76F-48A3-BAE6-454EBDFB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E927D-0FAB-4C84-92E7-38F941A5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D5CB6-8C6A-4B86-AFAF-2AC6F59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4B32-714D-4005-81B7-E779650A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FD6E0-0BA5-4937-AB05-B94E5B79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2D2B0-B566-4F86-A999-11ECB4F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24B-634A-43F1-994B-B3566C6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8B0D-6460-4A1A-B720-94538EB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1DC44-EDFB-4566-99CC-24C8DEA5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AF50-E470-470F-96D9-8B13D286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0DB0D-EFFE-4625-9EBB-77910A08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F35A3-2B68-488E-BB6A-22F7680C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D87-4E38-43E7-8C63-C8D3D3BE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E07-098A-461C-9A06-348285E5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DB3-EC1E-4B02-877C-0153E24C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9D8-FC84-4862-BC0F-804A29D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EBB-34A3-4CA8-AB84-36E2FAB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661-0633-41E4-85F3-0B27EB36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A3B-95C0-4DFF-8B9C-44A590C4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8C8-5AFB-42B6-92E8-B1693B0173F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0DCA-FA2A-4AD8-87DD-BE1B697BC72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0BE9-0337-4042-B4AA-EEF117CEDA2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58920" y="184428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Le onde sono perturbazioni che si propagano trasportando energia ma non mate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ahoma"/>
              </a:rPr>
              <a:t>Le onde meccanich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onde trasversali sull'acqua"/>
          <p:cNvPicPr/>
          <p:nvPr/>
        </p:nvPicPr>
        <p:blipFill>
          <a:blip r:embed="rId2"/>
          <a:stretch/>
        </p:blipFill>
        <p:spPr>
          <a:xfrm>
            <a:off x="2484360" y="4365720"/>
            <a:ext cx="3638520" cy="15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247-5374-42D8-8C38-7847DA0355E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Le caratteristiche di un’ o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lunghezza-onda"/>
          <p:cNvPicPr/>
          <p:nvPr/>
        </p:nvPicPr>
        <p:blipFill>
          <a:blip r:embed="rId2"/>
          <a:stretch/>
        </p:blipFill>
        <p:spPr>
          <a:xfrm>
            <a:off x="755640" y="1052640"/>
            <a:ext cx="3384720" cy="240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482760" y="1690560"/>
            <a:ext cx="35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788000" y="1052640"/>
            <a:ext cx="3240000" cy="24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ronte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locità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iodo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requenza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unghezza d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mpiezza dell’ 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79280" y="3645000"/>
            <a:ext cx="822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i definisce fronte d’ onda il punto P più avanzato della corda che viene interessato dalla perturbazione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79280" y="4292640"/>
            <a:ext cx="8437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a velocità di propagazione del fronte d’ onda coincidente con ciò che si denominazione usualmente velocità dell’ on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900000" y="5013360"/>
            <a:ext cx="6408720" cy="1592280"/>
            <a:chOff x="900000" y="5013360"/>
            <a:chExt cx="6408720" cy="1592280"/>
          </a:xfrm>
        </p:grpSpPr>
        <p:sp>
          <p:nvSpPr>
            <p:cNvPr id="102" name="Text Box 20"/>
            <p:cNvSpPr/>
            <p:nvPr/>
          </p:nvSpPr>
          <p:spPr>
            <a:xfrm>
              <a:off x="900000" y="5013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locità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m/s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3" name="Group 21"/>
            <p:cNvGrpSpPr/>
            <p:nvPr/>
          </p:nvGrpSpPr>
          <p:grpSpPr>
            <a:xfrm>
              <a:off x="2124000" y="5084640"/>
              <a:ext cx="5184720" cy="1521000"/>
              <a:chOff x="2124000" y="5084640"/>
              <a:chExt cx="5184720" cy="1521000"/>
            </a:xfrm>
          </p:grpSpPr>
          <p:sp>
            <p:nvSpPr>
              <p:cNvPr id="104" name="Text Box 22"/>
              <p:cNvSpPr/>
              <p:nvPr/>
            </p:nvSpPr>
            <p:spPr>
              <a:xfrm>
                <a:off x="2484360" y="5084640"/>
                <a:ext cx="23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V = </a:t>
                </a: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· f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Text Box 23"/>
              <p:cNvSpPr/>
              <p:nvPr/>
            </p:nvSpPr>
            <p:spPr>
              <a:xfrm>
                <a:off x="2412720" y="6237360"/>
                <a:ext cx="27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unghezza d’ onda (m)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Text Box 24"/>
              <p:cNvSpPr/>
              <p:nvPr/>
            </p:nvSpPr>
            <p:spPr>
              <a:xfrm>
                <a:off x="5437080" y="515772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requenza (Hz)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Line 25"/>
              <p:cNvSpPr/>
              <p:nvPr/>
            </p:nvSpPr>
            <p:spPr>
              <a:xfrm>
                <a:off x="2124000" y="5300640"/>
                <a:ext cx="79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Line 26"/>
              <p:cNvSpPr/>
              <p:nvPr/>
            </p:nvSpPr>
            <p:spPr>
              <a:xfrm flipV="1">
                <a:off x="3781440" y="5589720"/>
                <a:ext cx="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Line 27"/>
              <p:cNvSpPr/>
              <p:nvPr/>
            </p:nvSpPr>
            <p:spPr>
              <a:xfrm flipH="1">
                <a:off x="4428720" y="5300640"/>
                <a:ext cx="93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Il periodo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dell’ onda è l’ intervallo di tempo che intercorre fra il passaggio di due creste o ventri successivi per lo stesso pu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La frequenza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f </a:t>
            </a:r>
            <a:r>
              <a:rPr b="1" lang="it-IT" sz="1800" spc="-1" strike="noStrike">
                <a:solidFill>
                  <a:srgbClr val="f2f2f2"/>
                </a:solidFill>
                <a:latin typeface="Tahoma"/>
              </a:rPr>
              <a:t>dell’ onda indica quante volte il punto dell’ acqua oscilla in un secondo</a:t>
            </a:r>
            <a:r>
              <a:rPr b="0" lang="it-IT" sz="1800" spc="-1" strike="noStrike">
                <a:solidFill>
                  <a:srgbClr val="f2f2f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http://members.xoom.it/Perrone/audio/Onde-uguale_intensita-diver.gif"/>
          <p:cNvPicPr/>
          <p:nvPr/>
        </p:nvPicPr>
        <p:blipFill>
          <a:blip r:embed="rId2"/>
          <a:stretch/>
        </p:blipFill>
        <p:spPr>
          <a:xfrm>
            <a:off x="4716360" y="2781360"/>
            <a:ext cx="4224600" cy="2448000"/>
          </a:xfrm>
          <a:prstGeom prst="rect">
            <a:avLst/>
          </a:prstGeom>
          <a:ln w="0">
            <a:noFill/>
          </a:ln>
        </p:spPr>
      </p:pic>
      <p:sp>
        <p:nvSpPr>
          <p:cNvPr id="112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9D0-F244-42C8-92AE-849CF8FF7AE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4005360"/>
            <a:ext cx="820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Si definisce ampiezza </a:t>
            </a:r>
            <a:r>
              <a:rPr b="1" lang="it-IT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1" lang="it-IT" sz="3200" spc="-1" strike="noStrike">
                <a:solidFill>
                  <a:srgbClr val="2b2bfe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dell’ onda lo spostamento massimo di  un                  punto dalla  sua posizione di equilib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5157720"/>
            <a:ext cx="8218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La distanza percorsa dal fronte dell’onda in un tempo pari al periodo di oscillazione di ciascun punto della corda si denomina lunghezza d’onda e si indica con</a:t>
            </a:r>
            <a:r>
              <a:rPr b="1" lang="it-IT" sz="1800" spc="-1" strike="noStrike">
                <a:solidFill>
                  <a:srgbClr val="2b2bfe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2929ff"/>
                </a:solidFill>
                <a:latin typeface="Tahoma"/>
              </a:rPr>
              <a:t>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" descr="pulse.gif (91926 byte)"/>
          <p:cNvPicPr/>
          <p:nvPr/>
        </p:nvPicPr>
        <p:blipFill>
          <a:blip r:embed="rId3"/>
          <a:stretch/>
        </p:blipFill>
        <p:spPr>
          <a:xfrm>
            <a:off x="5076720" y="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F13-F628-4019-8133-FC8234C33DF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Tipi di on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896000" y="1557360"/>
            <a:ext cx="4248000" cy="151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24000" y="1484280"/>
            <a:ext cx="309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Onda longitudi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erturbazione lungo 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irezione di propaga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sempio: onde son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4919760" y="3500280"/>
            <a:ext cx="4224240" cy="14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395280" y="3645000"/>
            <a:ext cx="30956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2bfe"/>
                </a:solidFill>
                <a:latin typeface="Verdana"/>
              </a:rPr>
              <a:t>Onda trasversale</a:t>
            </a:r>
            <a:r>
              <a:rPr b="0" lang="it-IT" sz="1800" spc="-1" strike="noStrike">
                <a:solidFill>
                  <a:srgbClr val="2b2bfe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b2bfe"/>
                </a:solidFill>
                <a:latin typeface="Verdana"/>
              </a:rPr>
              <a:t>perturbazione perpendicol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b2bfe"/>
                </a:solidFill>
                <a:latin typeface="Verdana"/>
              </a:rPr>
              <a:t>alla direzione di propaga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2b2bfe"/>
                </a:solidFill>
                <a:latin typeface="Verdana"/>
              </a:rPr>
              <a:t>Esempio: lu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492360" y="2276640"/>
            <a:ext cx="1150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3564000" y="4437000"/>
            <a:ext cx="1008000" cy="0"/>
          </a:xfrm>
          <a:prstGeom prst="line">
            <a:avLst/>
          </a:prstGeom>
          <a:ln w="47520">
            <a:solidFill>
              <a:srgbClr val="2b2b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804000" y="1844640"/>
            <a:ext cx="17287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2205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irezione di propagazio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6732720" y="386064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6732720" y="42926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6156360" y="4437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irezione di propagazio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08FA-556A-406F-AB66-E07DEDEE75A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40384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fless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fr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ff"/>
                </a:solidFill>
                <a:latin typeface="Tahoma"/>
              </a:rPr>
              <a:t>Diffr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572000" y="177336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708360" y="170028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50920" y="765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i ha una riflessione quando un’ onda incontrando un ostacolo torna indietro nel mezzo al quale provie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0" y="270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Quando un onda incontra la superficie di separazione di due mezzi diversi: una parte dell’ onda viene riflessa nel primo mezzo, l’ altra è trasmessa nel secondo mezzo cambiando direzione di propagazio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79280" y="4437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ff"/>
                </a:solidFill>
                <a:latin typeface="Tahoma"/>
              </a:rPr>
              <a:t>Si verifica quando l’ onda incontra un ostacolo che ha dimensioni uguali o minori della lunghezza d onda; l’ onda che arriva sul ostacolo lo aggira e prosegue il suo cammino indisturba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2" descr="riflessione-impulso.gif (93688 byte)"/>
          <p:cNvPicPr/>
          <p:nvPr/>
        </p:nvPicPr>
        <p:blipFill>
          <a:blip r:embed="rId2"/>
          <a:stretch/>
        </p:blipFill>
        <p:spPr>
          <a:xfrm>
            <a:off x="6084720" y="0"/>
            <a:ext cx="2421000" cy="242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://t1.gstatic.com/images?q=tbn:ANd9GcR_nCVQWAyKo-MMiPVwaY_0PG8u0F5StolFhvzMyabKsbAR-LILrw"/>
          <p:cNvPicPr/>
          <p:nvPr/>
        </p:nvPicPr>
        <p:blipFill>
          <a:blip r:embed="rId3"/>
          <a:stretch/>
        </p:blipFill>
        <p:spPr>
          <a:xfrm>
            <a:off x="6983280" y="278136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http://t1.gstatic.com/images?q=tbn:ANd9GcQjiTclO8J7ex5MpLkSyzOJpVXlorEGHoji5j9RvP-CKqy_RaT6"/>
          <p:cNvPicPr/>
          <p:nvPr/>
        </p:nvPicPr>
        <p:blipFill>
          <a:blip r:embed="rId4"/>
          <a:stretch/>
        </p:blipFill>
        <p:spPr>
          <a:xfrm>
            <a:off x="6156360" y="5373720"/>
            <a:ext cx="25606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48:55Z</dcterms:created>
  <dc:creator>Miky</dc:creator>
  <dc:description/>
  <dc:language>en-US</dc:language>
  <cp:lastModifiedBy>Laura Polenta</cp:lastModifiedBy>
  <dcterms:modified xsi:type="dcterms:W3CDTF">2011-05-13T14:21:29Z</dcterms:modified>
  <cp:revision>29</cp:revision>
  <dc:subject/>
  <dc:title>Diapositiva 1</dc:title>
</cp:coreProperties>
</file>